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F1AC307-2A9D-43C3-AEFE-F86815C84334}"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9DEA629-DC7B-4CE7-9C60-3FA80588636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2065B59-DD12-4465-B2F5-F6D1106C206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F11CFEB-9208-411C-AC7D-34F6B858D53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AE59DF0-EB1B-4F53-A9F7-D929D93027C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6F1DDF8-0F62-4710-861E-C92A070CD54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D996911-5131-41B3-9A51-44A322584C6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773030B-1038-4351-B6DC-E6F2B67913F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9ACFB16-D71B-4AA4-8BCF-0100BC3D1CF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97494F7-BFBE-492E-9849-813ED2E3BEA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A6FB8D5-D6E6-4E46-B25A-652702DF1EC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8FBE33C-2829-41A9-91BA-6E3E4589F1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C01871-E538-4E41-8149-7C7FDD0D13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81F665D-8175-41D0-8D2B-2CF0159B71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5714F7D-236D-450F-B7DE-D8818F00EA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03C87A4-23E6-4356-9BFD-ADEE8ED84B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4437927-2EAF-4E05-A9E5-780E105EC0B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A774373-B809-49E0-9D4C-84E0D0D5A7D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4AD69CA-AE14-4A8A-BBDA-7F3A5636F5D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D64D068-2A5C-46E1-811D-3745EF3F42C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630C7AE-AC33-4A14-8D18-B3074D88584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5F77222-3128-4E34-BA49-6E4ADAF1C5B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3A7D93-902A-43B0-8836-3D8CE7AACA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3478650-F6B7-4AE2-9C64-DF627B31946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5F96ABF-97AC-4666-9C94-9A5C505990C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6E6DC48-68B8-4629-A7F3-600ECEDD886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9980470-38F7-4AB6-BA8E-2FD56069F0E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7EADA45-C1D8-43CD-90B5-A0F6CCC25DA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B45637-63A8-44BF-8BDE-1E57314CFD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A22D34-525A-4FC5-8F77-245EB70789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83845D-FDDD-4D69-A905-170D29D406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28FF82-D609-4482-A1F9-8212F4759B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46DC00-413D-4F17-9EB4-6EF40A639D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82437C-C589-4838-A2D7-001C2BD5EF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5C1F72-EC8D-4951-A7EF-33504CE38A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37281-8F1B-487B-8A57-EF97E4018A9F}"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F87B7-42D0-4E96-AA76-4C1E937E53A4}"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DCFB71E4-0536-46AD-AAC1-D029A13965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AE65730-AAE5-41DE-85EE-E2BE5FD00B55}"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83ECF2F-8D2C-4056-94F6-83E68425E1C6}"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13722E2-2E2E-41D2-84D4-ABDD80846940}"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4986423-175C-4638-8190-2B251E0DA93E}"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0E30C4C-E7A2-45E9-8F3F-54047EFA3063}"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3122843-5838-41CF-9317-818A4124CE29}"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B172DB9-91D3-4E4B-981D-5308480EDECF}"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B23D063-AE3C-4DAD-8E78-7113073C3390}"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2FA7E17-5352-45C7-BE0F-356F6748848B}"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DF97024-0D9B-4684-B80D-48C743999585}"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5870A06-042B-41C2-AA34-FC12357B0154}"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C60599E-54BE-4DB3-9FF1-942D3B21FC2C}"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8CDFB55-AF79-4AD0-AF6A-716199842B77}"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0AF2983-D9B2-4EFE-A6A8-BF220F4E4A9B}"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F3BED09-B719-4B29-9C1A-5EA99BE07EAD}"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842BC51-91A4-47BD-A21D-9602730A77C1}"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2D37605-089F-4D69-8514-8995D97ABB12}"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351C9BC5-FF4E-45D1-894C-312F6A417014}"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9B5622B6-C874-4311-9E84-852BF3D29143}"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8202EB2-0C0F-4D8E-BE39-13346EA0D2BA}"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761961B-F43B-4733-ACA2-7155409CC2EB}"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C98143B-F57A-405B-B2AB-A7AC075EC58E}"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798A729-7C84-4074-A457-5E96EF517A47}"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8DFAF92-3485-4F51-A8A2-463FF81512E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47B3129-514A-44CB-89DF-DE07EB003400}"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98E4103-7854-4297-BE0A-1A1C6F748B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2FB9677-6CFA-4F0C-8EC9-4ED162D72629}"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62B7A1F3-13C1-4C0F-978E-628A539619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0EEB38C-5FAD-433B-8A09-EB992CADFB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0C4C805-2F3E-492C-B34F-7A17455FE1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8862185-4EDE-4BD4-84E4-A08500218DC4}"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E52323E-2900-4983-8D18-4D854782AD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E966C41-80D6-462A-97C2-C38FE4DFC1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53BBAE7-A878-4C86-B9AD-AAEC774783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9F543EF-884C-443C-B875-E12F0CA97A8D}"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2430204-8F54-43E3-9DE6-D73514A7E4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3645C43-9135-4D51-A02C-49220B147F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6826F5B-52F5-4D12-A5EA-F9ABF27DA4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4553C75-A0A3-4086-B46E-4089AB1B7029}"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81F5011-84C1-4DEE-BD6C-662370D9E6A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52BF212-0219-4754-8EF5-0A47F371E1C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2A2CF4F-A37F-4A45-94D2-6075191915A8}"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0C75A78-9ECE-4B01-8D1C-6341D3E6344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E6C89A0-31A3-400A-8F51-DE644D68D45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ADA3EE3-BCFB-424A-A825-BB6A8B39C22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0A61734-F8B1-42DF-8693-D6F683EF6B0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E9848A4-6DF3-4E51-871B-CB4FCB84B39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7B03CB1-249B-4AB9-B885-2A56E03BAC87}"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AF98176-631E-483D-A92D-A78FC009735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428ECAE-1AE1-41F5-998A-3C96267BBFB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B867DF3-E08A-4E01-9220-EB85F57347E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B64FD44-7395-4842-A5E0-84EF473546C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468041A-20D0-45D9-BEB7-C491E160C483}"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539CF8B-1CAF-46A4-B4CC-1506F22BEAB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4CC6FA5-8F41-452D-887E-7A2067AE4F0A}"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026786E-EAEC-46E7-91E2-01392C34BB7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6C387DA-1CD3-4168-B3C0-75555C712D7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B1058FD-89CA-4E92-AF16-DD8A87780B7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C451AE1-653D-4B23-9F93-345FCD54E9C7}"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0B7530A-F784-43AC-AF69-0F5C88AAB763}"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1D75DCF-A334-4D78-AA8A-ABBDAA9F26A4}"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22F9206-0BA5-4F60-BB95-BB99DF3EBEED}"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ADC531E-F7F0-49BC-9DDE-3EE27BDBE628}"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892C212-B72D-4297-98CA-08F87D459069}"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27A29C2-B789-4AD2-81BB-FF56D1D208D4}"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AB85154-1358-4323-AC99-2695466D8B7B}"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A314FE5-A5A9-4662-B277-4FF9BE3D768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5777A7E-77D6-45D1-A46C-EEFB1AC47BD4}"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543CBA5-AC70-4489-8785-E40FE963BCC9}"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E9647F1-9973-482E-AD77-1881B0F983DC}"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445EAF3-E9A2-4F4B-B5F8-151813BBC95F}"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4091F5B-2B03-4DD4-8A0F-A42151ECB13A}"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2FE8024-94C5-426F-A349-C51F07B55AF2}"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BC04B7F-C8A4-436C-A2BB-A7281CEFE678}"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C2A9935-C4EE-48AF-B03A-5F87D7E5B84F}"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860800D-B0AA-49F5-A3B4-0E9CDEDB31EA}"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BEECDBD-CDF4-4870-A36C-98EDB0D5CDE8}"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CEFA046-BE86-417B-B877-2DAF5ADFD9C8}"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91D0F2F-A16C-47D8-95BE-82C07827475C}"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3187610-18C6-4D6D-9BC7-C19CABB64085}"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28CB520-45D8-475B-A141-87864BB15632}"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2AC40B7-0CBF-44C7-8A65-9BDA84EEAFA9}"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9E16D3C-EE3D-41D7-8574-1BC213A130CA}"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57A1D2B-266D-4A87-AE3F-F85CA222D6C9}"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90A6120-4845-4F00-8FBE-FB676C4BCD7B}"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D86E308-A1DF-4AA4-9770-14F0C71618CF}"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E45BE1B-57BD-43A8-87A4-A1A9110CD9E4}"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BE530D1-7BC2-4971-AB98-B984EF980157}"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28677E2-62E3-4914-8EE9-87D295148D6C}"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B3106F3-D42C-4281-A06C-81A3F90E4AB8}"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FB69D63-E37E-4CF6-B773-A5906151C9DA}"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7E125C3-93B5-4B4C-AE32-B1D85B4130A0}"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565683C-15B2-4347-AE7F-C04D6D50BC6C}"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8C391DC-24E5-4092-804C-A293DF0B6BB2}"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8538C3F-E35A-4C91-B592-64D90AB33070}"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35BEB7C-F63E-453B-8459-E7DE73EDD56E}"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C3EB9308-933F-4D76-BD5A-797CF400B2B8}"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BA604DF-7080-4EFC-BC04-BC59357E7044}"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56F9923-B375-4C67-B724-7433BA7792BE}"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87F8C8E-E7AC-4F3A-8C8C-B8C3500E24B3}"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A6F2E5F-CBF7-4D75-8385-39C89CBDF13B}"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10E76EC-726D-4347-A5EE-2CAAE85218FE}"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99CB047-EC64-497F-800F-17A473B54FEB}"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BE7F650-DC7C-4406-9DEE-9C39C63E2908}"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C3675F4-12C4-4201-8B1D-74EE21471BD1}"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E9F4DDA-6E32-4394-8362-F30AA543B59C}"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D802C43-E33E-4914-8002-5815AEA42A6F}"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2BAA119-3DEA-4A52-845F-9912E65E4F7E}"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BC5282F6-5C6B-4C6A-BAF5-6E070FC9897E}"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B8B983C-C175-46A8-B7E5-9A2D27342886}"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DC1CEAA-1B0F-44C5-8184-D4D1C58FE1E2}"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09439FB-02CC-4BB2-A418-ACD88A751282}"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E593F4E-9477-4098-9F6E-26821C7B48BC}"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301DE78-0D56-4ACA-B19E-3DE72F18D05F}"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AC2AC57-66C8-4F52-9854-2CF7A025E603}"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FFF9473-E87F-40B2-B23B-4EAF0E7B41E5}"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F54A719-E276-47BC-82BA-64F33D47EA89}"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E483F23-4993-4D8B-8576-D598C0059D69}"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55B3130-04DB-408D-A96A-2753A4F3E2F3}"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F1E1A38-D1F7-4D08-92CA-5B22CA7CCE43}"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