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370F456-B703-4A11-8055-523D6E14BE8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8173529-7D16-446D-9C03-95F90995D0C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D22E221-5FBA-4B10-80C1-F75641E53AE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CF647D8-ADB3-4C15-877F-1AA3DA1CD92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2A43904-53D1-4546-B705-DF1DC1BB597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97B4810-8DF7-4EDB-B989-B75DC317C16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F629E1D-42CE-4F31-9448-95A05BB1DE3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70F7299-D88F-4C4B-95F0-BC5F9B9FDAB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158E1CD-886F-425A-8376-23D231166EC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A96ADAA-2039-4415-BCC0-58E70490AED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1A620B2-1AAE-45C7-A40C-556AC6C1CE2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D132954-5972-44BF-AE10-5CA3E513CFF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3200014-9ED9-4616-B766-1A0763107A4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D7A489F-646F-466E-9DDE-51DE5CE4621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4CFF95F-9A96-4400-A9FE-77A3FB34529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3E2659B-6807-4180-A6AB-4151822D311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4EF8DEC-FDC9-405A-A1F6-7F996739D39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27BFAC1-716B-4329-9275-CF5C70CE853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ACF483D-E18F-4F78-AB8D-9308BEDB800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E6B81B0-6F9D-4736-B029-B32D29142A1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964E1A0-B95B-43B0-9980-40D34C3B933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9AF6F6A-9BD3-4DA7-8E68-8EFBDB6A300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896F756-D547-4075-A246-0E371E675C1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F449A79-EE32-4F30-9717-3CE65925ADD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989B55D-664E-43E6-AFA4-373EE042979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8A5D025-8210-450C-ADA5-5BA5091757A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C35248C-889C-4E1B-85C3-2C9DF6A3499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1A9207A-B9A7-40DF-8E09-2643189B9EB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926BD96-0836-42E3-B53B-FDD3053BC9F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219CE3B-0EE7-40CC-A250-29E1773D70A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DBC29D5-5A5C-4230-A1B7-BAD860DE1D5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639DF6C-0F18-4B3F-A6A4-81EA720AC6E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8BD6717-13CD-4CEF-908E-4087207D049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7E5B998-C75A-4FE3-A7E9-B4E4ED85BE3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F2B7908-94FC-41E2-848F-D4BBF97D014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E445297-C1F2-4CCC-A280-995AB0B4228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23E49-C777-4ECF-AE91-7E641123995E}"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89A3E-DC16-4D85-B3FE-2448C0DEA8A0}"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7B9F4C1-147E-4A21-B363-1D59CF5C4400}"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8F2B724-0434-410B-A548-4DCA8C3654BE}"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6BD04DD-7746-4E4D-8FC7-9A6C03E5BB85}"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06E2EC6-D20C-48E4-95E8-663961DF44E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8F32F33-1896-4E71-926B-0C0AC108C1A4}"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9441921-5BA3-4063-A4FD-F8E2B005481F}"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AE9FE93-0F24-4EC8-8CF1-8EEC89980CD2}"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215DF34-E8C1-4A50-B773-B88C76626885}"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775AFE9-78C0-464D-AE1B-47BFA879C425}"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987DDAF-4B04-4397-97AA-C2BE1B3B9A94}"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5BF095B-32EB-422F-A13A-81B80A0613C8}"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F59C5039-25EC-4863-873F-212A715120A4}"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0C9845E-546D-425C-9BA1-50B0832CEB63}"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27988F5-7131-487A-BB31-BD2E1FF11CF8}"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68D10DA-E7E3-42F4-B63B-A66AD1EB0F0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11882ED-AA54-4552-9B0D-4FA5D6292967}"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7C0A425-B356-4F55-BBA3-A1368B887FA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4120D69-4900-43E8-9875-E55B764CB43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B506A09-C311-4F9B-8C9C-8670055AF0C2}"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0C475D4-A868-4A8F-BCBB-32CB6CF8127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C7EDA8E-C3F7-4EB4-AFF1-338FDF7DB3D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E42D927-96F7-4BB4-A6F9-A441C2E38C7D}"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68DDF74-3285-4FD0-B4D7-F21E9EE3CBF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B6DF792-F132-4BD9-8441-E022CEBFE0D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87E7779-6B14-4F0E-9DEF-10D8A06EA06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C50E2CF-0AB5-4E26-9F27-DD1491E330C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35E7FF6-1C92-44CB-8932-97710BE8BB5C}"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715ADB0-8654-47B4-AE54-D37815D390D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0176064-B21C-41B5-B3E3-B5B01B6EA26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3B584F0-6763-4E4F-8722-F8D2AA46102F}"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49E3F89-8382-4C50-BB75-D992DE983BF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67FA9F5-7BE3-47E4-9BE6-0CC9771B0C4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F9943BE-E1B1-41DF-B673-F1E111B6B4C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BD49331-4A5C-4F93-9247-B4D2A82CEDC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23901F4-5984-4381-A0C1-275970E14B9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D55FECA-F767-4F8D-A0D9-D0D6241D175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7E2443E-5097-4ECD-AB2D-B00A9AF4680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3B87AE2-09DB-48F8-978F-B5F9360B81BA}"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5085E64-E97A-4BCF-991C-BC386A861C8C}"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ACE4A0D-72B8-42A5-9E15-466060E4A4B1}"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097EE34-6159-40D3-94D2-3A1A69BBBD27}"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12B3DD0-DBA3-44DC-89E3-D510CFDCF42B}"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C53444F-F327-4FF4-AB01-1B325DB9724B}"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FC8D73B-D34D-4D0F-B514-62743B7A91D3}"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512D693-59D5-402A-BB53-4CC57FDF09BD}"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879F72F-0C25-480E-8AA5-7CC86B32D2D2}"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5BF5365-B529-4B86-9F5B-C1012638A24C}"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BB8A872-90E6-45C1-9E85-B9B21D4FC115}"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F1B31B0-70B8-4F67-B688-23BF55A9408F}"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AD87DDF-1CB6-42C9-BF3B-9479FB57611A}"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4D9FD3C-7DD1-4BD6-B5FD-1FC23494208F}"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3E9D5A1-61C0-4B46-B87C-58450BC9DFCE}"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8366250-79C9-4085-89D5-65B04A6343FB}"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4940E93-6471-47E6-9BB1-B2EE34B184F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07B01DA-D0D7-4431-B0AD-25C6EBF054B2}"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D436E40-3D66-47F1-B1B6-A88F9CDC0108}"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E407BE5-A83D-4F70-BF43-AE2D69F38942}"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337FEBD-B5C1-4ABD-B631-E4B87EEAE660}"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A2696B7-0E15-48A5-8719-2501D3ECE403}"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0A632BA-CE02-4365-A59B-71CC719E5D84}"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0B65AD2-E6F3-4241-BB5B-D90344C355A2}"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3D5EF95-FB6F-4F59-98B0-02D1963B6122}"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EA0BB9D-529D-41DF-A4BC-579E636037DB}"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EA13665-3FEE-4F2B-8111-000216E825DA}"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DB0934E-8577-41DE-8CF1-EAE5A047F4EB}"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85BF4B4-7A66-44F4-92A2-FB63C5C36DF3}"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FA006B0-7B91-45C2-ABCE-1B0E1FF29F60}"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2F46341-8F90-41B3-B6CB-96A6E1DBC967}"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A177649-9CA0-4371-9B05-88F217DA8C52}"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3EB68F9-02F0-4879-A16F-58E591A21F56}"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B56EFCA-54B7-4AC8-BFCA-B0A19AE31D12}"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BF86D46-96F5-43B3-811B-86B067FA26FB}"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C1FA59B-FDA9-4440-B817-06EB8050A15C}"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D31317C-A787-4DD3-9477-89C0FFA2E69C}"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DEEBB20-99B9-47C9-879D-D3ACF184B835}"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2CE0521-0A79-4167-B478-2EF2859CB671}"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C32C330-44DD-4704-80D9-8A0E5CCD9439}"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F660017-2A6A-4CB7-BB40-C53FD941732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0FBB63C-2D06-446A-9BCE-660E50C5CB9A}"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866CA6A-BC07-493F-9AA3-07E8C0C8AA1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9612C48-C7DA-4C3C-AB79-DCCAE4340925}"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AEB1011-C968-4792-A473-5E411C987737}"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91D4D49-C1B4-458D-947D-1D6DD59F1C62}"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D0A4D4A-ECC6-40A7-A6D8-E9C4BDFAB829}"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EA688BD-AC0A-4972-995E-41CCB64F310A}"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0C709A5-7704-42B0-8928-C49A3A5DCB29}"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94FE86C-E23C-4BDB-A0E3-F7EA8DA7F32E}"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7F1762A-9D97-49DC-9563-124A97EE025E}"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F6D70E6-2A40-40EC-B2E9-60303AF63DBB}"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B8CA2CD-ED7C-43E8-8B6A-B0C4A26FBBBF}"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D156BDC-4B1A-4A0E-A4E6-880DBE2A463D}"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D651D0B-1701-4297-BDA1-65A6E1576300}"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1EFC679-DE9A-447A-B205-F7344332C9B4}"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A76D862-0464-4A95-B755-22F6312BA768}"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C8D9F8C-976D-48DB-B635-456E4B10A7C6}"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9DB04D0-1794-4551-AC16-3418438B884D}"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46CC540-045C-4B3D-B558-AD0556EBB6AE}"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A865B3FB-8831-4F44-AA13-E70503C47B2E}"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E61470D-FDFA-47CF-841B-B33BF5DC23B7}"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8684687-1D06-47F2-8834-884576538DFF}"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6091C54-7AB7-423D-9DC1-6D5D0A4C06DD}"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E320F72-7D7A-4D8A-8AB6-D1AF6B7F856D}"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E8C874A-82E5-46E2-A048-DA3886CF9CFC}"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5FDBCBD-4178-4F62-B770-A7EB00D3051E}"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73BAD68-E5FF-415C-9004-6BBDD57F1159}"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1042CA3-38BF-429C-84C7-3E3B0E5C22E8}"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66E1CE6-DD4D-44DF-AD23-2A6862F513A7}"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AAE9339-2D54-4937-892A-1E469D1986D0}"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C0B104E-505F-4CE6-84FF-433741A097BD}"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6E622DD-06D1-4BD6-A5F2-1E3F128BC52C}"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BD82B23-185E-4EE7-BA15-3F2E575AF575}"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