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D945C-E8FD-4E9E-97E3-5C4412AC5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12C7B-EA95-4ACA-A860-9F7AB0633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6E80D-D529-4106-9558-6D3E020DB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D5E5F-DDAE-478A-A155-5CF6EE658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2D4CA-FE08-4CA9-9785-FCBC3A6E3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A70F9-7DF0-4539-8914-54F75E096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C25CF-9101-4ECB-9D11-D17C47E53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6FDEF-CBDD-405A-971F-F55C5F350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ECD6E-4C12-4687-B86A-FE106F670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D690F-C601-4997-A00F-CF56C2C58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6A943-C4A1-4E0C-8478-A95BA1C4F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A1559-D1CE-4D99-AADC-51A855E3F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9B59A31-4DF9-4C1B-B744-2264667D73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5560"/>
            <a:ext cx="1800" cy="2163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700280"/>
            <a:ext cx="1800" cy="65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120" cy="593280"/>
            <a:chOff x="2013120" y="1668600"/>
            <a:chExt cx="501120" cy="59328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59760" cy="518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560" cy="536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280" bIns="-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5560"/>
            <a:ext cx="1800" cy="2163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8480"/>
            <a:ext cx="1295640" cy="50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700280"/>
            <a:ext cx="1800" cy="65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120" cy="593280"/>
            <a:chOff x="6046920" y="1668600"/>
            <a:chExt cx="501120" cy="59328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59760" cy="518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560" cy="536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280" bIns="-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4600"/>
            <a:ext cx="406440" cy="357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 flipV="1">
            <a:off x="3492360" y="1050480"/>
            <a:ext cx="1800" cy="2019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2049120" y="3068640"/>
            <a:ext cx="144468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3492360" y="1915920"/>
            <a:ext cx="503280" cy="1153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995640" y="1916280"/>
            <a:ext cx="1800" cy="14666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rot="16974600">
            <a:off x="3647520" y="2325240"/>
            <a:ext cx="279720" cy="28908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81284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3038400" y="3381480"/>
            <a:ext cx="959040" cy="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983040" y="3075120"/>
            <a:ext cx="42696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479400" y="1601640"/>
            <a:ext cx="925560" cy="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992040" y="1601640"/>
            <a:ext cx="42732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4411800" y="1604520"/>
            <a:ext cx="1440" cy="14670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3052800" y="1902960"/>
            <a:ext cx="1440" cy="14670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3049560" y="1908000"/>
            <a:ext cx="959040" cy="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9560" y="1592280"/>
            <a:ext cx="42696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64204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09132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 flipV="1">
            <a:off x="3492360" y="1050480"/>
            <a:ext cx="1800" cy="2019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2049120" y="3068640"/>
            <a:ext cx="144468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21120000">
            <a:off x="291600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3492360" y="2274480"/>
            <a:ext cx="935280" cy="795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427640" y="2274480"/>
            <a:ext cx="1440" cy="144324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44924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4427640" y="1843200"/>
            <a:ext cx="504720" cy="43488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88484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701800" y="3933720"/>
            <a:ext cx="2311560" cy="1724400"/>
            <a:chOff x="2701800" y="3933720"/>
            <a:chExt cx="2311560" cy="1724400"/>
          </a:xfrm>
        </p:grpSpPr>
        <p:sp>
          <p:nvSpPr>
            <p:cNvPr id="109" name=""/>
            <p:cNvSpPr/>
            <p:nvPr/>
          </p:nvSpPr>
          <p:spPr>
            <a:xfrm flipV="1">
              <a:off x="3521880" y="4034880"/>
              <a:ext cx="1440" cy="976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521880" y="5010120"/>
              <a:ext cx="12164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013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701800" y="52898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2821680" y="5010120"/>
              <a:ext cx="699480" cy="497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718160" y="49075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4900680" y="2119320"/>
            <a:ext cx="1830240" cy="1309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3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599000" y="2923560"/>
              <a:ext cx="2014560" cy="1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60628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1270080" y="3933720"/>
            <a:ext cx="2311200" cy="1724400"/>
            <a:chOff x="1270080" y="3933720"/>
            <a:chExt cx="2311200" cy="1724400"/>
          </a:xfrm>
        </p:grpSpPr>
        <p:sp>
          <p:nvSpPr>
            <p:cNvPr id="134" name=""/>
            <p:cNvSpPr/>
            <p:nvPr/>
          </p:nvSpPr>
          <p:spPr>
            <a:xfrm flipV="1">
              <a:off x="2088360" y="4034880"/>
              <a:ext cx="1440" cy="976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088360" y="5010120"/>
              <a:ext cx="12164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0692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270080" y="52898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>
              <a:off x="1389960" y="5010120"/>
              <a:ext cx="699480" cy="497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286080" y="49075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3468600" y="2119320"/>
            <a:ext cx="1830600" cy="1309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4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166920" y="2923560"/>
              <a:ext cx="2014560" cy="1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174200" y="2276640"/>
              <a:ext cx="108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127080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6458040" y="2119320"/>
            <a:ext cx="1830240" cy="1309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6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156360" y="2923560"/>
              <a:ext cx="2014560" cy="1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163640" y="2276640"/>
              <a:ext cx="108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21116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H="1" flipV="1">
            <a:off x="6567120" y="3529080"/>
            <a:ext cx="663480" cy="61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H="1" flipV="1">
            <a:off x="4929120" y="4176720"/>
            <a:ext cx="44784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